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D338-6029-4FB9-9290-DF5D6F0F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269-7553-40B2-80B3-8DFCAAB0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2C7B7-4285-467E-9161-7235E947F7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AB9B9-B53B-47F2-BB91-C17CA6C983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A1C362-49C7-4701-8109-FA70F19D92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F01427-D58A-4AB3-8BA0-3C2674FE9F3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A67FE-CA32-4FD4-8731-A7224416AA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12D3B-9099-470F-8FFB-0231B1B532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ED912-5DA0-4B55-B329-1295422C1A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096A91-55A0-487F-84D4-ADFE11614EC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058B5-6E3D-4C82-8969-A425DB3C347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590A5-F866-4626-BEB3-302A3419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DEF-DC16-4F6D-A6CC-846CBB8E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D4B1D-7A1E-49CE-B0CA-018E1841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BF730-5A17-473C-BD96-368C405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3116D-7646-43B4-B728-BB37DB82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BE7626-0B33-428D-A047-272DD38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5674F9-36F8-4448-B4D6-E86C5FCE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E1471-65A2-477F-85AB-140B748E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BB70A5-7520-45AB-86B8-D0B4A03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BECB0-3473-497D-8C15-20C93B40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73404-EEEC-42A7-9793-2DC316EA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6DB9DB-BA87-4FDC-9914-12D25413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7B1-9FF0-4035-B4A9-0B6E016C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EC7DEC-57FE-49AF-AE4C-CD54106A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11632-A739-43A4-8F0C-BF345AF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A6700-C650-41E5-BA4A-F63D6606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EBE784-E08F-40E9-9E54-C23A24A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C76DD8-DAFB-4FB1-B86F-D6D1163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7B995-D2AC-4527-B239-1E1B7E64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024750-F973-404E-8406-CC12FB7D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6CAB28-3C8F-4880-920B-C42573A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59C54A-D59C-4825-8B20-1CF399EF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2D2474-ADEB-423D-AF18-B69C628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975C0-61ED-4B42-A317-34F3D470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820C5-E36D-427D-AED5-FEB73BDF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68B5F-9035-49DB-82F0-CB213F36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5878F0-8721-4F04-A780-C97EB792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486BB2-3934-4C84-B5D9-EDF469B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662341-0B5D-49A0-A0BB-4F5527AC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DCBBE4-2EAA-41C2-A49F-DEBFFFE5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A964FA-9558-4371-832D-4AE7484B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A766FB-BBC8-4A21-80AB-E4EFF7CE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694D47-C192-48EE-A0ED-B3B2F704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8137DF-7A28-4E0C-AEC1-3EB9A44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54C031-04AF-4FF2-BC1F-250E25F7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59C84C-F1C2-4DA5-BB0D-BE4072CC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E7EBE4-8D41-49A9-ADCB-B3D384EC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2DFA05-C107-4936-8BC2-20C258CF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1CAB4-DD05-42F3-93C6-6B909FFF7FB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88E93-752D-4238-A197-8B2B4EFF366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BD6BA-F102-46D9-9067-367CB6A224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B8EDD-53AC-485D-B59E-680A9534501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0DDED-A3C5-4A28-8337-2609FFFFE56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4B885-DA0B-4BAB-887C-75D2B0B8FC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7B7A6-8B65-4EC7-A65A-0EADE6F5C9E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93F86-BA33-4C24-B8BF-E74583E88C7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A1333-5948-42B1-9AD6-2EA19CE4CE9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F95F0-7CD6-49C8-9E13-E8FFFB9DEF3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8B692-E697-4EAA-B78A-BB9F8B26820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D7941-6A29-4D43-8E88-51DC7C4441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83A-501A-422A-B818-5002B909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18EE-D2A2-4C21-A0B0-F74C6D4E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84E3-2640-4892-8DEC-5F78A85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91F3-0371-4FA5-B298-37C96CC1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E58-80D5-46AB-9DD0-17397A5E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D7A1-52EA-4244-B5FB-6EA33C2E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668-FD24-4A23-A2C7-92D85DEE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5769-6B33-4822-B7DE-3B33986E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2641-129B-4604-A0D1-C112223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045-8B6A-4661-BDA7-82B728EF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75DA-56B2-490E-B394-AB6A8A4F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DF42-3DCC-4A84-A2CD-7CADD5BB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C4F1-7492-4A0E-A838-1ECE0979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A9AA-69EF-4D0F-A01A-ED1D1C68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C6CB-4F57-44E2-8431-8A135E26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7283-DD58-473A-8DFA-24E3B11D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BD685-B433-415D-BF35-A7B16AAB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C59-FEDD-4F92-91B7-889852EC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CBBE-29EB-4724-8A36-5FBD067F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573C-9E44-4C72-A78D-0FF005CF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DC4F1-E6D9-45BF-8740-24E4D84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327A-569D-42BE-9FD7-F4156947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8952-A7B7-42BD-812F-AF8409D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93B2-ED8A-4A5F-9FC6-C957647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83748-F6DA-414D-9DDD-C0FF1E8E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0DCBD-C975-4321-B4A5-4CEFED53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19B5B-11E0-40C2-B0CD-C4A1683D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B6CF-6B36-4C7C-AF8D-68349310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9B7-05B1-4F12-A859-5764568B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F40C5-5137-4684-84CE-13D3D5D7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2B60-FF07-42F2-B7D8-46C4587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6DD9-8616-4E0A-B9E7-1878189C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7C82-61D1-4CAF-B869-AB9C4488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C39E-6FE6-40C7-8007-4454476A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9D67-5B52-4B77-BEE5-3B5335E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D7A4-52C9-43D7-A874-96F53DA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27D3-6EF6-4ED4-924E-E0D102E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B6AF-A45F-4C4F-AB9A-67F7B92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769E-7150-4F77-B41F-C020F05E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1AD-C094-4540-968B-D4D8CD0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EC1E-9DB6-4B19-A730-E77DDC7E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8F2B-698F-4CBE-AEDB-76A50406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FB64-352B-4AF7-9B60-45F15CD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3329-AD0D-4F08-94B6-A9DE4DC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71587-755B-44A5-AFD0-2438F4E7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FE39-47EE-47CF-9A22-C5938001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D3D2-9EF4-401F-BAE1-86AF823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1576-1749-4D1B-9B5D-021E1AB9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4D40-A759-4C3E-A9DA-06994C0E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1B23-3EDF-49A7-BB7C-43D1170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111-2761-47A6-8D6D-C7617E17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A0B2-F6E9-423B-8AB7-CEA8BF80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C720-3DB0-476A-B6A3-F85F0443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9543-7550-4A9F-8203-9F7D1313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B709-BCBC-4088-A6C9-427BAB13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645D-F0F7-4DC6-84F9-7DE7E252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07F1-5A8F-415E-8ED1-63256CF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21D7F-7F37-4C66-AB0B-4EAA7697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1422F-16E0-417A-BF12-1804996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29C8-393F-4564-AA43-36B96BFE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33376-32F4-4590-A73A-EC4E7AE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F3D-ACE9-40EC-A842-45833F8B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D8336-D697-4025-A4C8-32A4749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44E6-F495-40F7-96A8-EF917C8A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99BD-A900-46F4-A92E-195C5F2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6749-9344-453B-B050-FF6EECCA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252D-C746-4241-8996-8C205AD1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8CB9-D099-4BCC-8B8B-172D77AA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A2FC-9295-4352-BD71-D2DD6748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31B9-2F69-4BA5-BBAF-5D72373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670DB-BE01-4873-A1D2-2245598D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2DF3-F5B5-44A7-A13A-331D1236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D0C-B7CD-4495-9BF2-DBB53986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B8FB-BAB9-4893-9E54-547E2AB3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C518D-2F8A-4EF8-84A7-984B3162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5581-AA56-4D64-98C1-4CAA2081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2215-30B9-4A78-B4D4-5CA99C7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F2401-BD5F-4A84-886F-C6D0278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8FEE2-46C0-49D1-B341-3FDBBC38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2AFA-8257-44A8-961E-F1C50A4F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CC0B9C-3B67-434D-83D3-B9045CF223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F2CE7-16D7-47C3-9213-9ADA616BC4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4FD01E-549C-491A-983D-84DE0E1EA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D1CF-048C-4CA8-B069-2E0CD2C2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EDB-7F25-4D64-BAFE-91416FD631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7C58-9BB9-4E1E-B0C6-0CF3DA2A7071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753C-BDCF-4D88-8150-BF405188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1DB5-4580-4BFC-AF4F-BD9072BB6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A4C7-1E97-4715-A97A-E39232F1A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679-B706-49B5-A3D2-197B54029FD9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9A8-B11B-45C2-A48D-A7F559C4A1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3400-0DD8-42E7-B499-AC4E6550B063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F8D-D678-451F-8505-1F8320545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862-B25F-43BA-8C1B-B98C276C94CC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456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2"/>
          </p:nvPr>
        </p:nvSpPr>
        <p:spPr>
          <a:xfrm>
            <a:off x="0" y="6381360"/>
            <a:ext cx="6781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002C-0878-47C7-8740-9595ECEDF9FA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ycles of 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like the one-way flow of energy, matter is recycled within and between eco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cycles are the water cycle, Nutrient Cycle, Carbon Cycle, nitrogen cycle and phosphorus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Ecolog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colog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study of interactions among organisms and between organisms and their environ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iosph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ains the combined portions of the planet in which life exists, including land, water, and air or atmosp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evels of Organiz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Species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is a group of organisms so similar to one another that they can breed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Population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re groups of individuals that belong to the same species and live in the same area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Communities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re assemblages of the different populations that live together ina defined area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Ecosystem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is a collection of all the organisms that live together in a particular place as well as their nonliving or physical environment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Biome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is a group of ecosystems that have the same climate and similar dominant communitie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 is the main source of energy for life on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ypes of organisms rely on the energy stored in inorganic chemical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trophs (producers) use energy from the environment to fuel assembly of simple compounds into complex organic molecu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otroph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know autotrophs are those that harness the power of the sun through photosynthesis.  They use this energy to convert carbon dioxide and water into oxygen and gluco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cond type of autotrophs use chemical energy to make carbohydrates.  This is performed by several types of 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sum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terotrophs (consumers) rely on other organisms for their energy and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Herb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btain energy by eating pl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arn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at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Omn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at both plants and anim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tritivor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eed on the remains of plants, animals and other dead m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composer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reaks down organic m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eding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56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Energy flow through an ecosystem in one direction, from the sun or inorganic compounds to autotrophs (producers) and then to various heterotrophs (consum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1645"/>
                </a:solidFill>
                <a:uFillTx/>
                <a:latin typeface="Arial"/>
              </a:rPr>
              <a:t>Food Chains</a:t>
            </a: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 are a series of steps in which organisms transfer energy by eating or being e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1645"/>
                </a:solidFill>
                <a:uFillTx/>
                <a:latin typeface="Arial"/>
              </a:rPr>
              <a:t>Food webs</a:t>
            </a: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 show the complex interactions within an eco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616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45"/>
                </a:solidFill>
                <a:latin typeface="Arial"/>
              </a:rPr>
              <a:t>Each step in a food chain or web is called a trophic level.  Producers make up the first step, consumers make up the higher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cological Pyram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ecological pyramid is a diagram that shows the relationship amounts of energy or matter contained within each trophic level in a food web or food ch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nly 10% of the energy available within one trophic level is transferred to organisms at the next troph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yramids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Biomass pyramid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how the total amount of living tissue available at each trophic level.  This shows the amount of tissue available for the next trophic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umbers pyramid shows the number of species at each trophic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ecause each trophic level harvests only about one tenth of the energy from the level below, it can support only about on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e amount of living tiss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5:11:11Z</dcterms:created>
  <dc:creator> </dc:creator>
  <dc:description/>
  <dc:language>en-US</dc:language>
  <cp:lastModifiedBy>Lyn Clarkson</cp:lastModifiedBy>
  <dcterms:modified xsi:type="dcterms:W3CDTF">2009-08-26T00:13:13Z</dcterms:modified>
  <cp:revision>18</cp:revision>
  <dc:subject/>
  <dc:title>Ecology</dc:title>
</cp:coreProperties>
</file>